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A48421-6942-4D87-AB8B-B5CF630C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5 minutes -- slides 2, 3, &amp;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BDAD-5A0C-48CE-A40C-BD1539BB10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BA0A7-1C06-441F-8A8B-D1754A4351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discuss the questions with another group who did a different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n discuss any interesting findings as a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C85F9-2593-4B68-9372-43DEE8A142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M PL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 for groups of 3 to complete one of the tasks (A or 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M PL 6.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ach group of 3 will receive all three pages of BLM 6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group, they choose which question to tack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BDF8-DE37-48C7-AF54-33DB8281AC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941F0-A8D0-4AAC-A3AF-48A741AF967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B44-A15F-48D0-88D1-FCD30AEB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98E-C9EF-4E46-B210-9BCD6F1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3CF-6A39-4EC2-BE51-DF10A598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74A-4280-4586-B31B-DFCFC6C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33A1-A990-4371-9D74-6D851EA5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533-D679-4945-91F7-734845D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726-81DF-44EF-BA9F-C15ADA16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84E0-D17C-40C2-83E9-6367C495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EE49-2F31-4F18-8FD5-D0D0BA4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61C-FB1F-4939-8C79-DC1BD24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C2E4-DEA5-4B72-B24F-3ADC72D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B61-5315-49C0-98CB-D2C5B33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446-B935-45C7-8795-89B34FC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B2B-2CFC-4FA3-9C17-159B04C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AE65-7170-4ECA-B1B0-FF036E0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2D8-CAC4-4573-8B87-E59EE32F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5276-649B-4396-83C8-EFFC3AE5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878-FE7C-4365-BAF0-E5B129BC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F5A-D5FE-447E-9C7A-D169771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11D-83D6-4FC1-9B79-2E850814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E82-6E52-4D83-87CB-3E6361C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954-068D-4BD6-B5BC-423E1B5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30C-05F3-4370-BEA1-1F4F686C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95D-4421-44F4-B62C-2D7CB3F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A224-E122-4908-B652-7ECF1001F39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450D-947D-406D-94E1-F07258BEC8C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E51-D3A3-4F5C-8EF5-5CF0DAE268C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6T02:11:53Z</dcterms:modified>
  <cp:revision>167</cp:revision>
  <dc:subject/>
  <dc:title>Math GAINS 2008-09</dc:title>
</cp:coreProperties>
</file>